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90758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885600" y="812880"/>
            <a:ext cx="5784840" cy="4006800"/>
          </a:xfrm>
          <a:prstGeom prst="rect">
            <a:avLst/>
          </a:prstGeom>
          <a:solidFill>
            <a:srgbClr val="ffffff">
              <a:alpha val="75000"/>
            </a:srgbClr>
          </a:solidFill>
          <a:ln w="18000">
            <a:solidFill>
              <a:srgbClr val="000000"/>
            </a:solidFill>
            <a:round/>
          </a:ln>
        </p:spPr>
        <p:txBody>
          <a:bodyPr lIns="0" rIns="0" tIns="0" bIns="0" anchor="ctr">
            <a:noAutofit/>
          </a:bodyPr>
          <a:p>
            <a:pPr marL="820800" algn="ctr">
              <a:lnSpc>
                <a:spcPct val="93000"/>
              </a:lnSpc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dt" idx="5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ftr" idx="6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 type="sldNum" idx="7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B30F80-A847-4B65-ABF5-46C00C2211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884160" y="812880"/>
            <a:ext cx="5789520" cy="40082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Droits d'accès issus des droits du compte d'accès à la base de données: lecture seule (SELECT), mise à jour (UPDATE), ajout (INSERT). Pas de limitation possible au niveau des lignes des tables (ie. masquer des annotations privée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Pas d'historique car même si un client le gérait, l'utilisation d'un client ne le gérant pas suffirait à fausser l'historiqu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ccès concurrent: 2 annotateurs modifient la même entrée en même temps, le premier qui enregistrera croira l'avoir fait mais le second écrasera son travail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Compatibilité du client: un utilisateur peut se connecter directement à la base de données et l'altérer “à la main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écurité réseau: oblige l'ouverture de la B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884160" y="812880"/>
            <a:ext cx="5789520" cy="4008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écuriser pour éviter piratage ou mauvaise ut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47F6-5DBC-4AE6-A916-AC13F6D16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5360" y="3853800"/>
            <a:ext cx="89121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7DF0-CEA8-43FD-AEBA-7BB025FB7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95360" y="385380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61960" y="385380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E20D-BD32-45B9-820A-4BAABB569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8920" y="160344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22120" y="160344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5360" y="385380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08920" y="385380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22120" y="385380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2FFF-BF34-44D2-848D-871EE3B0F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95360" y="280800"/>
            <a:ext cx="891216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95360" y="385380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77F2-FE6B-491A-A7E2-4FF49F369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61960" y="385380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5360" y="3853800"/>
            <a:ext cx="89121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360" y="3853800"/>
            <a:ext cx="89121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95360" y="385380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061960" y="385380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08920" y="160344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522120" y="160344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95360" y="385380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08920" y="385380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522120" y="385380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AF1F-C57B-4E35-AE67-A2D83A1E2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739D-734D-4D67-BB67-8AC56E66E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9B6A-72FE-407B-96B6-820901728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95360" y="280800"/>
            <a:ext cx="891216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CFAF-F6C0-46C4-AD6E-6EC21350E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5360" y="385380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B330-35AF-4A0F-918C-F596E34F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61960" y="385380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9355-DED6-4551-B4B4-1A00A7BD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5360" y="3853800"/>
            <a:ext cx="89121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D4F9-A752-4F1A-BDDC-92AB3264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6640" y="5977080"/>
            <a:ext cx="8915040" cy="554760"/>
            <a:chOff x="566640" y="5977080"/>
            <a:chExt cx="8915040" cy="554760"/>
          </a:xfrm>
        </p:grpSpPr>
        <p:grpSp>
          <p:nvGrpSpPr>
            <p:cNvPr id="1" name=""/>
            <p:cNvGrpSpPr/>
            <p:nvPr/>
          </p:nvGrpSpPr>
          <p:grpSpPr>
            <a:xfrm>
              <a:off x="566640" y="5977080"/>
              <a:ext cx="1486440" cy="554760"/>
              <a:chOff x="566640" y="5977080"/>
              <a:chExt cx="1486440" cy="554760"/>
            </a:xfrm>
          </p:grpSpPr>
          <p:sp>
            <p:nvSpPr>
              <p:cNvPr id="2" name=""/>
              <p:cNvSpPr/>
              <p:nvPr/>
            </p:nvSpPr>
            <p:spPr>
              <a:xfrm>
                <a:off x="566640" y="6041520"/>
                <a:ext cx="1486440" cy="305280"/>
              </a:xfrm>
              <a:custGeom>
                <a:avLst/>
                <a:gdLst/>
                <a:ahLst/>
                <a:rect l="l" t="t" r="r" b="b"/>
                <a:pathLst>
                  <a:path w="953" h="212">
                    <a:moveTo>
                      <a:pt x="0" y="106"/>
                    </a:moveTo>
                    <a:cubicBezTo>
                      <a:pt x="57" y="53"/>
                      <a:pt x="114" y="0"/>
                      <a:pt x="227" y="15"/>
                    </a:cubicBezTo>
                    <a:cubicBezTo>
                      <a:pt x="340" y="30"/>
                      <a:pt x="560" y="182"/>
                      <a:pt x="681" y="197"/>
                    </a:cubicBezTo>
                    <a:cubicBezTo>
                      <a:pt x="802" y="212"/>
                      <a:pt x="877" y="159"/>
                      <a:pt x="953" y="106"/>
                    </a:cubicBezTo>
                  </a:path>
                </a:pathLst>
              </a:custGeom>
              <a:noFill/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rot="1614000">
                <a:off x="636840" y="6172560"/>
                <a:ext cx="286560" cy="9792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rot="19452600">
                <a:off x="1344960" y="6106320"/>
                <a:ext cx="286560" cy="9756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rot="2245800">
                <a:off x="1123560" y="6212880"/>
                <a:ext cx="159120" cy="1306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rot="15693000">
                <a:off x="1725840" y="6153480"/>
                <a:ext cx="146880" cy="1414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990720" y="5977080"/>
                <a:ext cx="317880" cy="8064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rot="12615000">
                <a:off x="1466280" y="6376680"/>
                <a:ext cx="317880" cy="8028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2051640" y="5977080"/>
              <a:ext cx="1486440" cy="554760"/>
              <a:chOff x="2051640" y="5977080"/>
              <a:chExt cx="1486440" cy="554760"/>
            </a:xfrm>
          </p:grpSpPr>
          <p:sp>
            <p:nvSpPr>
              <p:cNvPr id="10" name=""/>
              <p:cNvSpPr/>
              <p:nvPr/>
            </p:nvSpPr>
            <p:spPr>
              <a:xfrm>
                <a:off x="2051640" y="6041520"/>
                <a:ext cx="1486440" cy="305280"/>
              </a:xfrm>
              <a:custGeom>
                <a:avLst/>
                <a:gdLst/>
                <a:ahLst/>
                <a:rect l="l" t="t" r="r" b="b"/>
                <a:pathLst>
                  <a:path w="953" h="212">
                    <a:moveTo>
                      <a:pt x="0" y="106"/>
                    </a:moveTo>
                    <a:cubicBezTo>
                      <a:pt x="57" y="53"/>
                      <a:pt x="114" y="0"/>
                      <a:pt x="227" y="15"/>
                    </a:cubicBezTo>
                    <a:cubicBezTo>
                      <a:pt x="340" y="30"/>
                      <a:pt x="560" y="182"/>
                      <a:pt x="681" y="197"/>
                    </a:cubicBezTo>
                    <a:cubicBezTo>
                      <a:pt x="802" y="212"/>
                      <a:pt x="877" y="159"/>
                      <a:pt x="953" y="106"/>
                    </a:cubicBezTo>
                  </a:path>
                </a:pathLst>
              </a:custGeom>
              <a:noFill/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rot="1614000">
                <a:off x="2121840" y="6172560"/>
                <a:ext cx="286560" cy="9792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rot="19452600">
                <a:off x="2829960" y="6106320"/>
                <a:ext cx="286560" cy="9756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rot="2245800">
                <a:off x="2608560" y="6212880"/>
                <a:ext cx="159120" cy="1306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rot="15693000">
                <a:off x="3210840" y="6153480"/>
                <a:ext cx="146880" cy="1414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2475720" y="5977080"/>
                <a:ext cx="317880" cy="8064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rot="12615000">
                <a:off x="2951280" y="6376680"/>
                <a:ext cx="317880" cy="8028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" name=""/>
            <p:cNvGrpSpPr/>
            <p:nvPr/>
          </p:nvGrpSpPr>
          <p:grpSpPr>
            <a:xfrm>
              <a:off x="3538080" y="5977080"/>
              <a:ext cx="1486800" cy="554760"/>
              <a:chOff x="3538080" y="5977080"/>
              <a:chExt cx="1486800" cy="554760"/>
            </a:xfrm>
          </p:grpSpPr>
          <p:sp>
            <p:nvSpPr>
              <p:cNvPr id="18" name=""/>
              <p:cNvSpPr/>
              <p:nvPr/>
            </p:nvSpPr>
            <p:spPr>
              <a:xfrm>
                <a:off x="3538080" y="6041520"/>
                <a:ext cx="1486800" cy="305280"/>
              </a:xfrm>
              <a:custGeom>
                <a:avLst/>
                <a:gdLst/>
                <a:ahLst/>
                <a:rect l="l" t="t" r="r" b="b"/>
                <a:pathLst>
                  <a:path w="953" h="212">
                    <a:moveTo>
                      <a:pt x="0" y="106"/>
                    </a:moveTo>
                    <a:cubicBezTo>
                      <a:pt x="57" y="53"/>
                      <a:pt x="114" y="0"/>
                      <a:pt x="227" y="15"/>
                    </a:cubicBezTo>
                    <a:cubicBezTo>
                      <a:pt x="340" y="30"/>
                      <a:pt x="560" y="182"/>
                      <a:pt x="681" y="197"/>
                    </a:cubicBezTo>
                    <a:cubicBezTo>
                      <a:pt x="802" y="212"/>
                      <a:pt x="877" y="159"/>
                      <a:pt x="953" y="106"/>
                    </a:cubicBezTo>
                  </a:path>
                </a:pathLst>
              </a:custGeom>
              <a:noFill/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1614000">
                <a:off x="3608280" y="6172560"/>
                <a:ext cx="286560" cy="9792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19452600">
                <a:off x="4316400" y="6106320"/>
                <a:ext cx="286560" cy="9756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2245800">
                <a:off x="4095000" y="6212880"/>
                <a:ext cx="159120" cy="1306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15693000">
                <a:off x="4697280" y="6153480"/>
                <a:ext cx="146880" cy="14184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3962520" y="5977080"/>
                <a:ext cx="317880" cy="8064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12615000">
                <a:off x="4437720" y="6376680"/>
                <a:ext cx="317880" cy="8028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5023440" y="5977080"/>
              <a:ext cx="1486800" cy="554760"/>
              <a:chOff x="5023440" y="5977080"/>
              <a:chExt cx="1486800" cy="554760"/>
            </a:xfrm>
          </p:grpSpPr>
          <p:sp>
            <p:nvSpPr>
              <p:cNvPr id="26" name=""/>
              <p:cNvSpPr/>
              <p:nvPr/>
            </p:nvSpPr>
            <p:spPr>
              <a:xfrm>
                <a:off x="5023440" y="6041520"/>
                <a:ext cx="1486800" cy="305280"/>
              </a:xfrm>
              <a:custGeom>
                <a:avLst/>
                <a:gdLst/>
                <a:ahLst/>
                <a:rect l="l" t="t" r="r" b="b"/>
                <a:pathLst>
                  <a:path w="953" h="212">
                    <a:moveTo>
                      <a:pt x="0" y="106"/>
                    </a:moveTo>
                    <a:cubicBezTo>
                      <a:pt x="57" y="53"/>
                      <a:pt x="114" y="0"/>
                      <a:pt x="227" y="15"/>
                    </a:cubicBezTo>
                    <a:cubicBezTo>
                      <a:pt x="340" y="30"/>
                      <a:pt x="560" y="182"/>
                      <a:pt x="681" y="197"/>
                    </a:cubicBezTo>
                    <a:cubicBezTo>
                      <a:pt x="802" y="212"/>
                      <a:pt x="877" y="159"/>
                      <a:pt x="953" y="106"/>
                    </a:cubicBezTo>
                  </a:path>
                </a:pathLst>
              </a:custGeom>
              <a:noFill/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1614000">
                <a:off x="5093640" y="6172560"/>
                <a:ext cx="286560" cy="9792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19452600">
                <a:off x="5801760" y="6106320"/>
                <a:ext cx="286560" cy="9756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2245800">
                <a:off x="5580360" y="6212880"/>
                <a:ext cx="159120" cy="1306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15693000">
                <a:off x="6182640" y="6153480"/>
                <a:ext cx="146880" cy="14184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5447880" y="5977080"/>
                <a:ext cx="317880" cy="8064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12615000">
                <a:off x="5923080" y="6376680"/>
                <a:ext cx="317880" cy="8028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" name=""/>
            <p:cNvGrpSpPr/>
            <p:nvPr/>
          </p:nvGrpSpPr>
          <p:grpSpPr>
            <a:xfrm>
              <a:off x="6508440" y="5977080"/>
              <a:ext cx="1486800" cy="554760"/>
              <a:chOff x="6508440" y="5977080"/>
              <a:chExt cx="1486800" cy="554760"/>
            </a:xfrm>
          </p:grpSpPr>
          <p:sp>
            <p:nvSpPr>
              <p:cNvPr id="34" name=""/>
              <p:cNvSpPr/>
              <p:nvPr/>
            </p:nvSpPr>
            <p:spPr>
              <a:xfrm>
                <a:off x="6508440" y="6041520"/>
                <a:ext cx="1486800" cy="305280"/>
              </a:xfrm>
              <a:custGeom>
                <a:avLst/>
                <a:gdLst/>
                <a:ahLst/>
                <a:rect l="l" t="t" r="r" b="b"/>
                <a:pathLst>
                  <a:path w="953" h="212">
                    <a:moveTo>
                      <a:pt x="0" y="106"/>
                    </a:moveTo>
                    <a:cubicBezTo>
                      <a:pt x="57" y="53"/>
                      <a:pt x="114" y="0"/>
                      <a:pt x="227" y="15"/>
                    </a:cubicBezTo>
                    <a:cubicBezTo>
                      <a:pt x="340" y="30"/>
                      <a:pt x="560" y="182"/>
                      <a:pt x="681" y="197"/>
                    </a:cubicBezTo>
                    <a:cubicBezTo>
                      <a:pt x="802" y="212"/>
                      <a:pt x="877" y="159"/>
                      <a:pt x="953" y="106"/>
                    </a:cubicBezTo>
                  </a:path>
                </a:pathLst>
              </a:custGeom>
              <a:noFill/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1614000">
                <a:off x="6578640" y="6172560"/>
                <a:ext cx="286560" cy="9792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19452600">
                <a:off x="7286760" y="6106320"/>
                <a:ext cx="286560" cy="9756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2245800">
                <a:off x="7065360" y="6212880"/>
                <a:ext cx="159120" cy="1306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15693000">
                <a:off x="7667640" y="6153480"/>
                <a:ext cx="146880" cy="14184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6932880" y="5977080"/>
                <a:ext cx="317880" cy="8064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12615000">
                <a:off x="7408080" y="6376680"/>
                <a:ext cx="317880" cy="8028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" name=""/>
            <p:cNvGrpSpPr/>
            <p:nvPr/>
          </p:nvGrpSpPr>
          <p:grpSpPr>
            <a:xfrm>
              <a:off x="7995240" y="5977080"/>
              <a:ext cx="1486440" cy="554760"/>
              <a:chOff x="7995240" y="5977080"/>
              <a:chExt cx="1486440" cy="554760"/>
            </a:xfrm>
          </p:grpSpPr>
          <p:sp>
            <p:nvSpPr>
              <p:cNvPr id="42" name=""/>
              <p:cNvSpPr/>
              <p:nvPr/>
            </p:nvSpPr>
            <p:spPr>
              <a:xfrm>
                <a:off x="7995240" y="6041520"/>
                <a:ext cx="1486440" cy="305280"/>
              </a:xfrm>
              <a:custGeom>
                <a:avLst/>
                <a:gdLst/>
                <a:ahLst/>
                <a:rect l="l" t="t" r="r" b="b"/>
                <a:pathLst>
                  <a:path w="953" h="212">
                    <a:moveTo>
                      <a:pt x="0" y="106"/>
                    </a:moveTo>
                    <a:cubicBezTo>
                      <a:pt x="57" y="53"/>
                      <a:pt x="114" y="0"/>
                      <a:pt x="227" y="15"/>
                    </a:cubicBezTo>
                    <a:cubicBezTo>
                      <a:pt x="340" y="30"/>
                      <a:pt x="560" y="182"/>
                      <a:pt x="681" y="197"/>
                    </a:cubicBezTo>
                    <a:cubicBezTo>
                      <a:pt x="802" y="212"/>
                      <a:pt x="877" y="159"/>
                      <a:pt x="953" y="106"/>
                    </a:cubicBezTo>
                  </a:path>
                </a:pathLst>
              </a:custGeom>
              <a:noFill/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614000">
                <a:off x="8065440" y="6172560"/>
                <a:ext cx="286560" cy="9792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9452600">
                <a:off x="8773560" y="6106320"/>
                <a:ext cx="286560" cy="9756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2245800">
                <a:off x="8552160" y="6212880"/>
                <a:ext cx="159120" cy="1306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5693000">
                <a:off x="9154440" y="6153480"/>
                <a:ext cx="146880" cy="1414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419320" y="5977080"/>
                <a:ext cx="317880" cy="8064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12615000">
                <a:off x="8894880" y="6376680"/>
                <a:ext cx="317880" cy="8028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" name=""/>
          <p:cNvSpPr/>
          <p:nvPr/>
        </p:nvSpPr>
        <p:spPr>
          <a:xfrm>
            <a:off x="0" y="0"/>
            <a:ext cx="9906120" cy="6858000"/>
          </a:xfrm>
          <a:custGeom>
            <a:avLst/>
            <a:gdLst/>
            <a:ahLst/>
            <a:rect l="l" t="t" r="r" b="b"/>
            <a:pathLst>
              <a:path w="28001" h="21001">
                <a:moveTo>
                  <a:pt x="0" y="21000"/>
                </a:moveTo>
                <a:cubicBezTo>
                  <a:pt x="0" y="19000"/>
                  <a:pt x="1500" y="8000"/>
                  <a:pt x="7500" y="6000"/>
                </a:cubicBezTo>
                <a:cubicBezTo>
                  <a:pt x="6000" y="6000"/>
                  <a:pt x="5000" y="6000"/>
                  <a:pt x="3000" y="7000"/>
                </a:cubicBezTo>
                <a:cubicBezTo>
                  <a:pt x="4590" y="4835"/>
                  <a:pt x="10120" y="4534"/>
                  <a:pt x="15500" y="4500"/>
                </a:cubicBezTo>
                <a:cubicBezTo>
                  <a:pt x="16037" y="4493"/>
                  <a:pt x="23833" y="4500"/>
                  <a:pt x="28000" y="4500"/>
                </a:cubicBezTo>
                <a:cubicBezTo>
                  <a:pt x="28000" y="3000"/>
                  <a:pt x="28000" y="0"/>
                  <a:pt x="28000" y="0"/>
                </a:cubicBezTo>
                <a:lnTo>
                  <a:pt x="0" y="0"/>
                </a:lnTo>
                <a:lnTo>
                  <a:pt x="0" y="21000"/>
                </a:lnTo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7753320" y="0"/>
            <a:ext cx="2152800" cy="1028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060560" cy="11811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Arial"/>
              <a:buChar char="●"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Arial"/>
              <a:buChar char="●"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1"/>
          </p:nvPr>
        </p:nvSpPr>
        <p:spPr>
          <a:xfrm>
            <a:off x="495000" y="6369120"/>
            <a:ext cx="2305080" cy="3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687240"/>
                <a:tab algn="l" pos="1376280"/>
                <a:tab algn="l" pos="20638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687240"/>
                <a:tab algn="l" pos="1376280"/>
                <a:tab algn="l" pos="20638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2"/>
          </p:nvPr>
        </p:nvSpPr>
        <p:spPr>
          <a:xfrm>
            <a:off x="3387240" y="6369120"/>
            <a:ext cx="3140280" cy="3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5000"/>
              </a:lnSpc>
              <a:buNone/>
              <a:tabLst>
                <a:tab algn="l" pos="0"/>
                <a:tab algn="l" pos="687240"/>
                <a:tab algn="l" pos="1376280"/>
                <a:tab algn="l" pos="2063880"/>
                <a:tab algn="l" pos="2751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  <a:tab algn="l" pos="1067580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687240"/>
                <a:tab algn="l" pos="1376280"/>
                <a:tab algn="l" pos="2063880"/>
                <a:tab algn="l" pos="2751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  <a:tab algn="l" pos="106758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3"/>
          </p:nvPr>
        </p:nvSpPr>
        <p:spPr>
          <a:xfrm>
            <a:off x="7102080" y="6369120"/>
            <a:ext cx="2306520" cy="3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687240"/>
                <a:tab algn="l" pos="1376280"/>
                <a:tab algn="l" pos="20638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687240"/>
                <a:tab algn="l" pos="1376280"/>
                <a:tab algn="l" pos="20638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fld id="{470DF63B-A085-4B5A-8BD0-11DB9C797F6F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7830"/>
            </a:gs>
            <a:gs pos="100000">
              <a:srgbClr val="0d482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63440"/>
            <a:ext cx="10082160" cy="4081680"/>
          </a:xfrm>
          <a:custGeom>
            <a:avLst/>
            <a:gdLst/>
            <a:ahLst/>
            <a:rect l="l" t="t" r="r" b="b"/>
            <a:pathLst>
              <a:path w="28501" h="12502">
                <a:moveTo>
                  <a:pt x="6500" y="501"/>
                </a:moveTo>
                <a:cubicBezTo>
                  <a:pt x="8500" y="501"/>
                  <a:pt x="10136" y="423"/>
                  <a:pt x="8999" y="2001"/>
                </a:cubicBezTo>
                <a:cubicBezTo>
                  <a:pt x="10275" y="1254"/>
                  <a:pt x="11000" y="4500"/>
                  <a:pt x="13000" y="2001"/>
                </a:cubicBezTo>
                <a:cubicBezTo>
                  <a:pt x="12485" y="4912"/>
                  <a:pt x="16067" y="1005"/>
                  <a:pt x="16000" y="3001"/>
                </a:cubicBezTo>
                <a:cubicBezTo>
                  <a:pt x="18500" y="1501"/>
                  <a:pt x="19000" y="1501"/>
                  <a:pt x="17000" y="1"/>
                </a:cubicBezTo>
                <a:cubicBezTo>
                  <a:pt x="23000" y="1"/>
                  <a:pt x="20000" y="3001"/>
                  <a:pt x="23000" y="1"/>
                </a:cubicBezTo>
                <a:cubicBezTo>
                  <a:pt x="23500" y="3000"/>
                  <a:pt x="25500" y="0"/>
                  <a:pt x="27500" y="2001"/>
                </a:cubicBezTo>
                <a:cubicBezTo>
                  <a:pt x="26000" y="3001"/>
                  <a:pt x="28500" y="5001"/>
                  <a:pt x="27500" y="7501"/>
                </a:cubicBezTo>
                <a:cubicBezTo>
                  <a:pt x="25500" y="4500"/>
                  <a:pt x="25000" y="7501"/>
                  <a:pt x="27500" y="10501"/>
                </a:cubicBezTo>
                <a:cubicBezTo>
                  <a:pt x="26000" y="9000"/>
                  <a:pt x="19500" y="10001"/>
                  <a:pt x="18500" y="11001"/>
                </a:cubicBezTo>
                <a:cubicBezTo>
                  <a:pt x="19000" y="8501"/>
                  <a:pt x="14500" y="9001"/>
                  <a:pt x="10500" y="10501"/>
                </a:cubicBezTo>
                <a:cubicBezTo>
                  <a:pt x="12000" y="8001"/>
                  <a:pt x="6000" y="12501"/>
                  <a:pt x="5000" y="9000"/>
                </a:cubicBezTo>
                <a:cubicBezTo>
                  <a:pt x="3500" y="10501"/>
                  <a:pt x="1000" y="9501"/>
                  <a:pt x="1000" y="8001"/>
                </a:cubicBezTo>
                <a:cubicBezTo>
                  <a:pt x="2000" y="9001"/>
                  <a:pt x="2500" y="7000"/>
                  <a:pt x="1000" y="6001"/>
                </a:cubicBezTo>
                <a:cubicBezTo>
                  <a:pt x="2500" y="5501"/>
                  <a:pt x="0" y="4001"/>
                  <a:pt x="500" y="1001"/>
                </a:cubicBezTo>
                <a:cubicBezTo>
                  <a:pt x="1000" y="3001"/>
                  <a:pt x="2000" y="1000"/>
                  <a:pt x="5000" y="2501"/>
                </a:cubicBezTo>
                <a:cubicBezTo>
                  <a:pt x="3000" y="1"/>
                  <a:pt x="8000" y="2501"/>
                  <a:pt x="6500" y="501"/>
                </a:cubicBezTo>
              </a:path>
            </a:pathLst>
          </a:custGeom>
          <a:solidFill>
            <a:srgbClr val="f0ffb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87400" y="-81000"/>
            <a:ext cx="7859880" cy="6122880"/>
          </a:xfrm>
          <a:custGeom>
            <a:avLst/>
            <a:gdLst/>
            <a:ahLst/>
            <a:rect l="l" t="t" r="r" b="b"/>
            <a:pathLst>
              <a:path w="22217" h="18747">
                <a:moveTo>
                  <a:pt x="8816" y="2154"/>
                </a:moveTo>
                <a:cubicBezTo>
                  <a:pt x="11123" y="410"/>
                  <a:pt x="11158" y="1825"/>
                  <a:pt x="10022" y="3404"/>
                </a:cubicBezTo>
                <a:cubicBezTo>
                  <a:pt x="11297" y="2658"/>
                  <a:pt x="11494" y="3157"/>
                  <a:pt x="12492" y="747"/>
                </a:cubicBezTo>
                <a:cubicBezTo>
                  <a:pt x="11977" y="3659"/>
                  <a:pt x="13017" y="998"/>
                  <a:pt x="12950" y="2994"/>
                </a:cubicBezTo>
                <a:cubicBezTo>
                  <a:pt x="14052" y="0"/>
                  <a:pt x="15773" y="3167"/>
                  <a:pt x="14191" y="5659"/>
                </a:cubicBezTo>
                <a:cubicBezTo>
                  <a:pt x="16497" y="3917"/>
                  <a:pt x="16568" y="6745"/>
                  <a:pt x="18702" y="2757"/>
                </a:cubicBezTo>
                <a:cubicBezTo>
                  <a:pt x="19461" y="4921"/>
                  <a:pt x="18290" y="5085"/>
                  <a:pt x="19599" y="5754"/>
                </a:cubicBezTo>
                <a:cubicBezTo>
                  <a:pt x="21734" y="1764"/>
                  <a:pt x="22216" y="7090"/>
                  <a:pt x="20254" y="8501"/>
                </a:cubicBezTo>
                <a:cubicBezTo>
                  <a:pt x="20323" y="6503"/>
                  <a:pt x="18171" y="11747"/>
                  <a:pt x="19670" y="14747"/>
                </a:cubicBezTo>
                <a:cubicBezTo>
                  <a:pt x="18170" y="13246"/>
                  <a:pt x="18248" y="16528"/>
                  <a:pt x="17171" y="17247"/>
                </a:cubicBezTo>
                <a:cubicBezTo>
                  <a:pt x="17171" y="14247"/>
                  <a:pt x="11408" y="17392"/>
                  <a:pt x="9170" y="18746"/>
                </a:cubicBezTo>
                <a:cubicBezTo>
                  <a:pt x="10171" y="16247"/>
                  <a:pt x="5035" y="17826"/>
                  <a:pt x="6170" y="16246"/>
                </a:cubicBezTo>
                <a:cubicBezTo>
                  <a:pt x="4897" y="16993"/>
                  <a:pt x="4136" y="16746"/>
                  <a:pt x="3171" y="15747"/>
                </a:cubicBezTo>
                <a:cubicBezTo>
                  <a:pt x="2551" y="14414"/>
                  <a:pt x="5169" y="12747"/>
                  <a:pt x="3171" y="11746"/>
                </a:cubicBezTo>
                <a:cubicBezTo>
                  <a:pt x="8171" y="8247"/>
                  <a:pt x="0" y="11620"/>
                  <a:pt x="1825" y="9378"/>
                </a:cubicBezTo>
                <a:cubicBezTo>
                  <a:pt x="3203" y="8049"/>
                  <a:pt x="6819" y="6974"/>
                  <a:pt x="7024" y="5811"/>
                </a:cubicBezTo>
                <a:cubicBezTo>
                  <a:pt x="4236" y="7053"/>
                  <a:pt x="8816" y="2154"/>
                  <a:pt x="8816" y="2154"/>
                </a:cubicBezTo>
              </a:path>
            </a:pathLst>
          </a:custGeom>
          <a:solidFill>
            <a:srgbClr val="f0ffb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480" y="326880"/>
            <a:ext cx="9375480" cy="6205680"/>
          </a:xfrm>
          <a:custGeom>
            <a:avLst/>
            <a:gdLst/>
            <a:ahLst/>
            <a:rect l="l" t="t" r="r" b="b"/>
            <a:pathLst>
              <a:path w="26501" h="19001">
                <a:moveTo>
                  <a:pt x="10000" y="19000"/>
                </a:moveTo>
                <a:cubicBezTo>
                  <a:pt x="7000" y="18500"/>
                  <a:pt x="8000" y="17000"/>
                  <a:pt x="10000" y="16500"/>
                </a:cubicBezTo>
                <a:cubicBezTo>
                  <a:pt x="8500" y="16000"/>
                  <a:pt x="8500" y="16000"/>
                  <a:pt x="6000" y="17500"/>
                </a:cubicBezTo>
                <a:cubicBezTo>
                  <a:pt x="8500" y="15000"/>
                  <a:pt x="6000" y="15000"/>
                  <a:pt x="7500" y="13000"/>
                </a:cubicBezTo>
                <a:cubicBezTo>
                  <a:pt x="4500" y="15000"/>
                  <a:pt x="6500" y="10000"/>
                  <a:pt x="9500" y="9000"/>
                </a:cubicBezTo>
                <a:cubicBezTo>
                  <a:pt x="6500" y="8500"/>
                  <a:pt x="7000" y="6000"/>
                  <a:pt x="2500" y="8000"/>
                </a:cubicBezTo>
                <a:cubicBezTo>
                  <a:pt x="3500" y="5000"/>
                  <a:pt x="5000" y="5500"/>
                  <a:pt x="4500" y="3500"/>
                </a:cubicBezTo>
                <a:cubicBezTo>
                  <a:pt x="0" y="5500"/>
                  <a:pt x="3500" y="0"/>
                  <a:pt x="6000" y="500"/>
                </a:cubicBezTo>
                <a:cubicBezTo>
                  <a:pt x="4500" y="2500"/>
                  <a:pt x="12500" y="4000"/>
                  <a:pt x="13500" y="2500"/>
                </a:cubicBezTo>
                <a:cubicBezTo>
                  <a:pt x="14000" y="4500"/>
                  <a:pt x="20667" y="667"/>
                  <a:pt x="22000" y="1000"/>
                </a:cubicBezTo>
                <a:cubicBezTo>
                  <a:pt x="21000" y="3000"/>
                  <a:pt x="23833" y="4667"/>
                  <a:pt x="26500" y="5500"/>
                </a:cubicBezTo>
                <a:cubicBezTo>
                  <a:pt x="25667" y="6833"/>
                  <a:pt x="25500" y="9000"/>
                  <a:pt x="23500" y="9500"/>
                </a:cubicBezTo>
                <a:cubicBezTo>
                  <a:pt x="25000" y="10000"/>
                  <a:pt x="25500" y="11500"/>
                  <a:pt x="25500" y="13500"/>
                </a:cubicBezTo>
                <a:cubicBezTo>
                  <a:pt x="25000" y="15500"/>
                  <a:pt x="23000" y="14000"/>
                  <a:pt x="22500" y="15000"/>
                </a:cubicBezTo>
                <a:cubicBezTo>
                  <a:pt x="24500" y="15500"/>
                  <a:pt x="23500" y="18000"/>
                  <a:pt x="20500" y="18500"/>
                </a:cubicBezTo>
                <a:cubicBezTo>
                  <a:pt x="18500" y="18500"/>
                  <a:pt x="15500" y="16000"/>
                  <a:pt x="14500" y="17000"/>
                </a:cubicBezTo>
                <a:cubicBezTo>
                  <a:pt x="17500" y="18500"/>
                  <a:pt x="10000" y="19000"/>
                  <a:pt x="10000" y="19000"/>
                </a:cubicBezTo>
              </a:path>
            </a:pathLst>
          </a:custGeom>
          <a:solidFill>
            <a:srgbClr val="f0ffb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53880" y="3755880"/>
            <a:ext cx="1497240" cy="1667160"/>
          </a:xfrm>
          <a:prstGeom prst="rect">
            <a:avLst/>
          </a:prstGeom>
          <a:ln w="28440">
            <a:solidFill>
              <a:srgbClr val="000000"/>
            </a:solidFill>
            <a:round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714840" y="115920"/>
            <a:ext cx="2152440" cy="1027080"/>
          </a:xfrm>
          <a:prstGeom prst="rect">
            <a:avLst/>
          </a:prstGeom>
          <a:ln w="28440">
            <a:solidFill>
              <a:srgbClr val="000000"/>
            </a:solidFill>
            <a:round/>
          </a:ln>
        </p:spPr>
      </p:pic>
      <p:sp>
        <p:nvSpPr>
          <p:cNvPr id="98" name="PlaceHolder 1"/>
          <p:cNvSpPr>
            <a:spLocks noGrp="1"/>
          </p:cNvSpPr>
          <p:nvPr>
            <p:ph type="dt" idx="4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Autofit/>
          </a:bodyPr>
          <a:lstStyle>
            <a:lvl1pPr marL="216000" indent="0"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636480" y="1438200"/>
            <a:ext cx="8632800" cy="1774800"/>
          </a:xfrm>
          <a:prstGeom prst="rect">
            <a:avLst/>
          </a:prstGeom>
          <a:solidFill>
            <a:srgbClr val="ffffff">
              <a:alpha val="75000"/>
            </a:srgbClr>
          </a:solidFill>
          <a:ln w="38160">
            <a:solidFill>
              <a:srgbClr val="000000"/>
            </a:solidFill>
            <a:miter/>
          </a:ln>
        </p:spPr>
        <p:txBody>
          <a:bodyPr lIns="86760" rIns="86760" tIns="273600" bIns="273600" anchor="ctr">
            <a:noAutofit/>
          </a:bodyPr>
          <a:p>
            <a:pPr marL="820800" indent="0" algn="ctr">
              <a:lnSpc>
                <a:spcPct val="93000"/>
              </a:lnSpc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204840" indent="0" algn="ctr"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409680" algn="ctr">
              <a:lnSpc>
                <a:spcPct val="93000"/>
              </a:lnSpc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615960" algn="ct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820800" algn="ctr">
              <a:lnSpc>
                <a:spcPct val="93000"/>
              </a:lnSpc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82080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82080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7830"/>
            </a:gs>
            <a:gs pos="100000">
              <a:srgbClr val="0d482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36480" y="1141200"/>
            <a:ext cx="8632800" cy="2369880"/>
          </a:xfrm>
          <a:prstGeom prst="rect">
            <a:avLst/>
          </a:prstGeom>
          <a:solidFill>
            <a:srgbClr val="ffffff">
              <a:alpha val="75000"/>
            </a:srgbClr>
          </a:solidFill>
          <a:ln w="38160">
            <a:solidFill>
              <a:srgbClr val="000000"/>
            </a:solidFill>
            <a:miter/>
          </a:ln>
        </p:spPr>
        <p:txBody>
          <a:bodyPr lIns="86760" rIns="86760" tIns="273600" bIns="273600" anchor="ctr">
            <a:noAutofit/>
          </a:bodyPr>
          <a:p>
            <a:pPr marL="820800" indent="0" algn="ctr">
              <a:lnSpc>
                <a:spcPct val="93000"/>
              </a:lnSpc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GMOD Chado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to a Model-View-Controller (MVC) architecture?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2404800" y="3755520"/>
            <a:ext cx="6933960" cy="2156040"/>
          </a:xfrm>
          <a:prstGeom prst="rect">
            <a:avLst/>
          </a:prstGeom>
          <a:solidFill>
            <a:srgbClr val="f0ffba">
              <a:alpha val="50000"/>
            </a:srgbClr>
          </a:solidFill>
          <a:ln w="9360">
            <a:solidFill>
              <a:srgbClr val="000000"/>
            </a:solidFill>
            <a:prstDash val="lgDash"/>
            <a:miter/>
          </a:ln>
        </p:spPr>
        <p:txBody>
          <a:bodyPr lIns="86760" rIns="86760" tIns="43560" bIns="43560" anchor="b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Valentin GUIGN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ID, DAP, BIO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CIRAD Montpelli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2.2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olutions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Integration to GMOD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How will it be achiev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r Authent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odular: an external module will authenticate us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2.2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olutions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Integration to GMOD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How will it be achiev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 Rights Chec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QL Queries will be parsed and modifi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ome queries may be deni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2.2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olutions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Integration to GMOD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How will it be achiev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story Reco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ased on CHADO Audit “module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roduction: Current Iss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VC Architectu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tegration to GMO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Conclu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mph" presetID="20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3" dur="250" autoRev="1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134" dur="250" autoRev="1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135" dur="250" autoRev="1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3. Conclusion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 fontScale="97000"/>
          </a:bodyPr>
          <a:p>
            <a:pPr marL="326160" indent="-24768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new communication protocol must be set up: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rapped using HTTP(S), similar to SQL syntax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616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6160" indent="-24768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quires client side-modification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(Apollo, Artemis, GBrowse …)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bably a kind of Java DB driver just like the current on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616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6160" indent="-24768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s solution should be submitted to the GMOD commun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856840" y="2514600"/>
            <a:ext cx="3389760" cy="182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68400" bIns="68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36600"/>
                <a:tab algn="l" pos="187632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annotator_feature_acces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87632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87632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feature_id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 [FK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87632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nnotator_id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 [FK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87632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ccess_level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87632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comment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87632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60560" y="1208160"/>
            <a:ext cx="3609720" cy="471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68400" bIns="68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annotat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 [PK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varchar(32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alt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binary(32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binary(32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me_registration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mestam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me_last_login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mestam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me_last_try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mestam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failed_login_count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nyi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flags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role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comment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13440" y="4802040"/>
            <a:ext cx="3114720" cy="13413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68400" bIns="68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36600"/>
                <a:tab algn="l" pos="17035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Feature (from Chado DB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7035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7035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feature_id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 [PK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7035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7035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486080" y="5127480"/>
            <a:ext cx="2759040" cy="13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68400" bIns="68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36600"/>
                <a:tab algn="l" pos="13669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user_group_lin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3669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3669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group_id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 [FK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3669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user_id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 [FK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3669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3440" y="358920"/>
            <a:ext cx="3397320" cy="254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68400" bIns="68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36600"/>
                <a:tab algn="l" pos="20494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user_sess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0494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0494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ession_key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 [PK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0494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user_id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 [FK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0494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binary(16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0494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me_expiration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mestam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0494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ccess_query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0494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5378400" cy="664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User Database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cxnSp>
        <p:nvCxnSpPr>
          <p:cNvPr id="186" name=""/>
          <p:cNvCxnSpPr>
            <a:stCxn id="183" idx="0"/>
            <a:endCxn id="181" idx="2"/>
          </p:cNvCxnSpPr>
          <p:nvPr/>
        </p:nvCxnSpPr>
        <p:spPr>
          <a:xfrm flipV="1">
            <a:off x="2865240" y="4592160"/>
            <a:ext cx="1080" cy="535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187" name=""/>
          <p:cNvCxnSpPr>
            <a:stCxn id="180" idx="1"/>
            <a:endCxn id="181" idx="3"/>
          </p:cNvCxnSpPr>
          <p:nvPr/>
        </p:nvCxnSpPr>
        <p:spPr>
          <a:xfrm flipH="1" flipV="1">
            <a:off x="4669560" y="2899800"/>
            <a:ext cx="1343880" cy="495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188" name=""/>
          <p:cNvCxnSpPr>
            <a:stCxn id="182" idx="0"/>
            <a:endCxn id="180" idx="2"/>
          </p:cNvCxnSpPr>
          <p:nvPr/>
        </p:nvCxnSpPr>
        <p:spPr>
          <a:xfrm flipH="1" flipV="1">
            <a:off x="7551000" y="4274640"/>
            <a:ext cx="19800" cy="527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189" name=""/>
          <p:cNvCxnSpPr>
            <a:stCxn id="184" idx="1"/>
            <a:endCxn id="181" idx="3"/>
          </p:cNvCxnSpPr>
          <p:nvPr/>
        </p:nvCxnSpPr>
        <p:spPr>
          <a:xfrm flipH="1">
            <a:off x="4669560" y="1355400"/>
            <a:ext cx="1343880" cy="1545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lg" type="stealth" w="lg"/>
            <a:tailEnd len="lg" type="stealth" w="lg"/>
          </a:ln>
        </p:spPr>
      </p:cxnSp>
      <p:sp>
        <p:nvSpPr>
          <p:cNvPr id="190" name=""/>
          <p:cNvSpPr/>
          <p:nvPr/>
        </p:nvSpPr>
        <p:spPr>
          <a:xfrm>
            <a:off x="7644240" y="4278240"/>
            <a:ext cx="120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79000" y="4603680"/>
            <a:ext cx="372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0..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7320" y="3102120"/>
            <a:ext cx="372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0..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649280" y="4538520"/>
            <a:ext cx="372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0..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47320" y="2187720"/>
            <a:ext cx="372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0..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03560" y="3494160"/>
            <a:ext cx="120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973960" y="4865760"/>
            <a:ext cx="120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803560" y="1077840"/>
            <a:ext cx="120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226200" y="1339920"/>
            <a:ext cx="2476440" cy="11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GMOD Controll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77960" y="4408560"/>
            <a:ext cx="2477880" cy="11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User Databa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226200" y="3494160"/>
            <a:ext cx="2476440" cy="11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Modu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203480" y="1141560"/>
            <a:ext cx="990360" cy="1503360"/>
            <a:chOff x="1203480" y="1141560"/>
            <a:chExt cx="990360" cy="1503360"/>
          </a:xfrm>
        </p:grpSpPr>
        <p:sp>
          <p:nvSpPr>
            <p:cNvPr id="202" name=""/>
            <p:cNvSpPr/>
            <p:nvPr/>
          </p:nvSpPr>
          <p:spPr>
            <a:xfrm>
              <a:off x="1203480" y="1141560"/>
              <a:ext cx="990360" cy="150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1486440" y="1337400"/>
              <a:ext cx="424080" cy="1112040"/>
              <a:chOff x="1486440" y="1337400"/>
              <a:chExt cx="424080" cy="1112040"/>
            </a:xfrm>
          </p:grpSpPr>
          <p:sp>
            <p:nvSpPr>
              <p:cNvPr id="204" name=""/>
              <p:cNvSpPr/>
              <p:nvPr/>
            </p:nvSpPr>
            <p:spPr>
              <a:xfrm>
                <a:off x="1557000" y="1337400"/>
                <a:ext cx="282240" cy="262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98840" y="1599480"/>
                <a:ext cx="0" cy="39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1486440" y="1991520"/>
                <a:ext cx="212040" cy="45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 flipV="1">
                <a:off x="1698840" y="1991520"/>
                <a:ext cx="140400" cy="45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>
                <a:off x="1486440" y="1599480"/>
                <a:ext cx="212040" cy="26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 flipV="1">
                <a:off x="1698480" y="1599480"/>
                <a:ext cx="212040" cy="26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210" name=""/>
          <p:cNvCxnSpPr>
            <a:stCxn id="202" idx="3"/>
            <a:endCxn id="198" idx="1"/>
          </p:cNvCxnSpPr>
          <p:nvPr/>
        </p:nvCxnSpPr>
        <p:spPr>
          <a:xfrm>
            <a:off x="2193480" y="1893960"/>
            <a:ext cx="4033080" cy="216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cxnSp>
        <p:nvCxnSpPr>
          <p:cNvPr id="211" name=""/>
          <p:cNvCxnSpPr>
            <a:stCxn id="198" idx="2"/>
            <a:endCxn id="200" idx="0"/>
          </p:cNvCxnSpPr>
          <p:nvPr/>
        </p:nvCxnSpPr>
        <p:spPr>
          <a:xfrm>
            <a:off x="7464240" y="2449440"/>
            <a:ext cx="1080" cy="104544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cxnSp>
        <p:nvCxnSpPr>
          <p:cNvPr id="212" name=""/>
          <p:cNvCxnSpPr>
            <a:stCxn id="200" idx="1"/>
            <a:endCxn id="199" idx="3"/>
          </p:cNvCxnSpPr>
          <p:nvPr/>
        </p:nvCxnSpPr>
        <p:spPr>
          <a:xfrm flipH="1">
            <a:off x="3255120" y="4049640"/>
            <a:ext cx="2971080" cy="91512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cxnSp>
        <p:nvCxnSpPr>
          <p:cNvPr id="213" name=""/>
          <p:cNvCxnSpPr>
            <a:stCxn id="199" idx="3"/>
            <a:endCxn id="200" idx="1"/>
          </p:cNvCxnSpPr>
          <p:nvPr/>
        </p:nvCxnSpPr>
        <p:spPr>
          <a:xfrm flipV="1">
            <a:off x="3255480" y="4049280"/>
            <a:ext cx="2971080" cy="91512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cxnSp>
        <p:nvCxnSpPr>
          <p:cNvPr id="214" name=""/>
          <p:cNvCxnSpPr>
            <a:stCxn id="200" idx="0"/>
            <a:endCxn id="198" idx="2"/>
          </p:cNvCxnSpPr>
          <p:nvPr/>
        </p:nvCxnSpPr>
        <p:spPr>
          <a:xfrm flipV="1">
            <a:off x="7464240" y="2449080"/>
            <a:ext cx="1080" cy="104544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cxnSp>
        <p:nvCxnSpPr>
          <p:cNvPr id="215" name=""/>
          <p:cNvCxnSpPr>
            <a:stCxn id="198" idx="1"/>
            <a:endCxn id="202" idx="3"/>
          </p:cNvCxnSpPr>
          <p:nvPr/>
        </p:nvCxnSpPr>
        <p:spPr>
          <a:xfrm flipH="1" flipV="1">
            <a:off x="2193120" y="1893600"/>
            <a:ext cx="4033080" cy="216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sp>
        <p:nvSpPr>
          <p:cNvPr id="216" name=""/>
          <p:cNvSpPr/>
          <p:nvPr/>
        </p:nvSpPr>
        <p:spPr>
          <a:xfrm>
            <a:off x="2596680" y="1535040"/>
            <a:ext cx="27741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Login + Password </a:t>
            </a:r>
            <a:r>
              <a:rPr b="0" lang="fr-FR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HTTP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601760" y="2644920"/>
            <a:ext cx="184788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Login + Passwor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Module Ca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793680" y="4802040"/>
            <a:ext cx="231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Query user data </a:t>
            </a:r>
            <a:r>
              <a:rPr b="0" lang="fr-FR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SQ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049640" y="4148280"/>
            <a:ext cx="9381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User dat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364440" y="4670280"/>
            <a:ext cx="2199600" cy="12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ccount status chec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Login failures chec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Password chec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Retrieve group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Create sess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440960" y="2709720"/>
            <a:ext cx="284292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OK: Session ID + Group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Failed: Error code + messag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602080" y="1992240"/>
            <a:ext cx="284292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OK: Session ID + Group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Failed: Error code + messag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664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Authentication Process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918080" y="2654280"/>
            <a:ext cx="435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view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16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17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18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19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2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032360" y="2254320"/>
            <a:ext cx="2477880" cy="11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GMOD Controll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1203480" y="1141560"/>
            <a:ext cx="990360" cy="1503360"/>
            <a:chOff x="1203480" y="1141560"/>
            <a:chExt cx="990360" cy="1503360"/>
          </a:xfrm>
        </p:grpSpPr>
        <p:sp>
          <p:nvSpPr>
            <p:cNvPr id="227" name=""/>
            <p:cNvSpPr/>
            <p:nvPr/>
          </p:nvSpPr>
          <p:spPr>
            <a:xfrm>
              <a:off x="1203480" y="1141560"/>
              <a:ext cx="990360" cy="150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1486440" y="1337400"/>
              <a:ext cx="424080" cy="1112040"/>
              <a:chOff x="1486440" y="1337400"/>
              <a:chExt cx="424080" cy="1112040"/>
            </a:xfrm>
          </p:grpSpPr>
          <p:sp>
            <p:nvSpPr>
              <p:cNvPr id="229" name=""/>
              <p:cNvSpPr/>
              <p:nvPr/>
            </p:nvSpPr>
            <p:spPr>
              <a:xfrm>
                <a:off x="1557000" y="1337400"/>
                <a:ext cx="282240" cy="262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698840" y="1599480"/>
                <a:ext cx="0" cy="39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1486440" y="1991520"/>
                <a:ext cx="212040" cy="45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 flipV="1">
                <a:off x="1698840" y="1991520"/>
                <a:ext cx="140400" cy="45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1486440" y="1599480"/>
                <a:ext cx="212040" cy="26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 flipV="1">
                <a:off x="1698480" y="1599480"/>
                <a:ext cx="212040" cy="26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235" name=""/>
          <p:cNvCxnSpPr>
            <a:stCxn id="227" idx="3"/>
            <a:endCxn id="225" idx="1"/>
          </p:cNvCxnSpPr>
          <p:nvPr/>
        </p:nvCxnSpPr>
        <p:spPr>
          <a:xfrm>
            <a:off x="2193480" y="1893960"/>
            <a:ext cx="1839240" cy="91656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cxnSp>
        <p:nvCxnSpPr>
          <p:cNvPr id="236" name=""/>
          <p:cNvCxnSpPr>
            <a:stCxn id="225" idx="2"/>
            <a:endCxn id="237" idx="0"/>
          </p:cNvCxnSpPr>
          <p:nvPr/>
        </p:nvCxnSpPr>
        <p:spPr>
          <a:xfrm>
            <a:off x="5272200" y="3363480"/>
            <a:ext cx="2193120" cy="98028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664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Query Process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600640" y="1860480"/>
            <a:ext cx="2928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ession ID + Query </a:t>
            </a:r>
            <a:r>
              <a:rPr b="0" lang="fr-FR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HTTP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226200" y="4343400"/>
            <a:ext cx="2476440" cy="11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User Databa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534720" y="3560760"/>
            <a:ext cx="1335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Fetch sess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702680" y="3886200"/>
            <a:ext cx="1683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OK: Session dat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706440" y="2449440"/>
            <a:ext cx="161280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ession chec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Modify quer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udit (optional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03480" y="4408560"/>
            <a:ext cx="2476440" cy="11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"/>
          <p:cNvCxnSpPr>
            <a:stCxn id="237" idx="0"/>
            <a:endCxn id="225" idx="2"/>
          </p:cNvCxnSpPr>
          <p:nvPr/>
        </p:nvCxnSpPr>
        <p:spPr>
          <a:xfrm flipH="1" flipV="1">
            <a:off x="5271840" y="3363120"/>
            <a:ext cx="2193120" cy="98028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cxnSp>
        <p:nvCxnSpPr>
          <p:cNvPr id="245" name=""/>
          <p:cNvCxnSpPr>
            <a:stCxn id="225" idx="2"/>
            <a:endCxn id="243" idx="0"/>
          </p:cNvCxnSpPr>
          <p:nvPr/>
        </p:nvCxnSpPr>
        <p:spPr>
          <a:xfrm flipH="1">
            <a:off x="2441160" y="3363840"/>
            <a:ext cx="2831040" cy="104544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sp>
        <p:nvSpPr>
          <p:cNvPr id="246" name=""/>
          <p:cNvSpPr/>
          <p:nvPr/>
        </p:nvSpPr>
        <p:spPr>
          <a:xfrm>
            <a:off x="4056840" y="3886200"/>
            <a:ext cx="127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ubmit quer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572560" y="3560760"/>
            <a:ext cx="1285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Query resul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8" name=""/>
          <p:cNvCxnSpPr>
            <a:stCxn id="243" idx="0"/>
            <a:endCxn id="225" idx="2"/>
          </p:cNvCxnSpPr>
          <p:nvPr/>
        </p:nvCxnSpPr>
        <p:spPr>
          <a:xfrm flipV="1">
            <a:off x="2441160" y="3363480"/>
            <a:ext cx="2831040" cy="104544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cxnSp>
        <p:nvCxnSpPr>
          <p:cNvPr id="249" name=""/>
          <p:cNvCxnSpPr>
            <a:stCxn id="225" idx="1"/>
            <a:endCxn id="227" idx="3"/>
          </p:cNvCxnSpPr>
          <p:nvPr/>
        </p:nvCxnSpPr>
        <p:spPr>
          <a:xfrm flipH="1" flipV="1">
            <a:off x="2193120" y="1893600"/>
            <a:ext cx="1839240" cy="91656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sp>
        <p:nvSpPr>
          <p:cNvPr id="250" name=""/>
          <p:cNvSpPr/>
          <p:nvPr/>
        </p:nvSpPr>
        <p:spPr>
          <a:xfrm>
            <a:off x="2218680" y="2644920"/>
            <a:ext cx="1285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Query resul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846800" y="2122560"/>
            <a:ext cx="435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view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24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25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26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29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2313000" y="3036960"/>
            <a:ext cx="5886000" cy="228636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68400" bIns="68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 u="sng">
                <a:solidFill>
                  <a:srgbClr val="000000"/>
                </a:solidFill>
                <a:uFillTx/>
                <a:latin typeface="Arial"/>
              </a:rPr>
              <a:t>Modified Query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SELECT … FROM … feature f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WHERE …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AND f.feature_id IN (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SELECT fa.feature_id FROM feature_access f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WHERE fa.annotator_id IN (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'UserID', 'Group1ID', 'Group2ID', …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AND fa.access &gt;= 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) …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59360" y="1730520"/>
            <a:ext cx="3507480" cy="8596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68400" bIns="68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 u="sng">
                <a:solidFill>
                  <a:srgbClr val="000000"/>
                </a:solidFill>
                <a:uFillTx/>
                <a:latin typeface="Arial"/>
              </a:rPr>
              <a:t>Source query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ELECT … FROM … feature f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WHERE … …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664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Query Modification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811760" y="4343400"/>
            <a:ext cx="3397320" cy="260280"/>
          </a:xfrm>
          <a:prstGeom prst="rect">
            <a:avLst/>
          </a:prstGeom>
          <a:noFill/>
          <a:ln w="28440">
            <a:solidFill>
              <a:srgbClr val="004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438960" y="2774520"/>
            <a:ext cx="919080" cy="1568520"/>
          </a:xfrm>
          <a:prstGeom prst="line">
            <a:avLst/>
          </a:prstGeom>
          <a:ln w="28440">
            <a:solidFill>
              <a:srgbClr val="004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367320" y="1927080"/>
            <a:ext cx="3157560" cy="85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68400" bIns="68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tored in </a:t>
            </a:r>
            <a:r>
              <a:rPr b="1" i="1" lang="fr-FR" sz="1700" spc="-1" strike="noStrike">
                <a:solidFill>
                  <a:srgbClr val="000000"/>
                </a:solidFill>
                <a:latin typeface="Arial"/>
              </a:rPr>
              <a:t>user_session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able </a:t>
            </a:r>
            <a:r>
              <a:rPr b="1" i="1" lang="fr-FR" sz="1700" spc="-1" strike="noStrike">
                <a:solidFill>
                  <a:srgbClr val="000000"/>
                </a:solidFill>
                <a:latin typeface="Arial"/>
              </a:rPr>
              <a:t>access_query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(set at session creation tim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21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5000" y="279000"/>
            <a:ext cx="891540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687240"/>
                <a:tab algn="l" pos="1376280"/>
                <a:tab algn="l" pos="2063880"/>
                <a:tab algn="l" pos="2751120"/>
                <a:tab algn="l" pos="3440160"/>
                <a:tab algn="l" pos="4127400"/>
                <a:tab algn="l" pos="4813200"/>
                <a:tab algn="l" pos="5504040"/>
                <a:tab algn="l" pos="6191280"/>
                <a:tab algn="l" pos="6875640"/>
                <a:tab algn="l" pos="7564320"/>
                <a:tab algn="l" pos="8255160"/>
                <a:tab algn="l" pos="8540640"/>
                <a:tab algn="l" pos="8967960"/>
                <a:tab algn="l" pos="9394920"/>
                <a:tab algn="l" pos="9821880"/>
                <a:tab algn="l" pos="10248840"/>
                <a:tab algn="l" pos="1067580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roduction: Current Iss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VC Architectu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tegration to GMO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Conclu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" dur="250" autoRev="1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7" dur="250" autoRev="1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8" dur="250" autoRev="1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1. Introduction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Current Issues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urrent Architectur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ents have direct access to the data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44600" y="2579760"/>
            <a:ext cx="2122560" cy="2284200"/>
          </a:xfrm>
          <a:custGeom>
            <a:avLst/>
            <a:gdLst>
              <a:gd name="textAreaLeft" fmla="*/ 360 w 2122560"/>
              <a:gd name="textAreaRight" fmla="*/ 2122200 w 2122560"/>
              <a:gd name="textAreaTop" fmla="*/ 360 h 2284200"/>
              <a:gd name="textAreaBottom" fmla="*/ 2283840 h 2284200"/>
            </a:gdLst>
            <a:ahLst/>
            <a:rect l="textAreaLeft" t="textAreaTop" r="textAreaRight" b="textAreaBottom"/>
            <a:pathLst>
              <a:path w="21600" h="23245">
                <a:moveTo>
                  <a:pt x="15" y="0"/>
                </a:moveTo>
                <a:arcTo wR="15" hR="15" stAng="16200000" swAng="-5400000"/>
                <a:lnTo>
                  <a:pt x="0" y="23230"/>
                </a:lnTo>
                <a:arcTo wR="15" hR="15" stAng="10800000" swAng="-5400000"/>
                <a:lnTo>
                  <a:pt x="21585" y="23245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ata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HADO Databa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943600" y="2579760"/>
            <a:ext cx="2122560" cy="2284200"/>
          </a:xfrm>
          <a:custGeom>
            <a:avLst/>
            <a:gdLst>
              <a:gd name="textAreaLeft" fmla="*/ 360 w 2122560"/>
              <a:gd name="textAreaRight" fmla="*/ 2122200 w 2122560"/>
              <a:gd name="textAreaTop" fmla="*/ 360 h 2284200"/>
              <a:gd name="textAreaBottom" fmla="*/ 2283840 h 2284200"/>
            </a:gdLst>
            <a:ahLst/>
            <a:rect l="textAreaLeft" t="textAreaTop" r="textAreaRight" b="textAreaBottom"/>
            <a:pathLst>
              <a:path w="21600" h="23245">
                <a:moveTo>
                  <a:pt x="15" y="0"/>
                </a:moveTo>
                <a:arcTo wR="15" hR="15" stAng="16200000" swAng="-5400000"/>
                <a:lnTo>
                  <a:pt x="0" y="23230"/>
                </a:lnTo>
                <a:arcTo wR="15" hR="15" stAng="10800000" swAng="-5400000"/>
                <a:lnTo>
                  <a:pt x="21585" y="23245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Views: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GBrow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rtemi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3"/>
            <a:endCxn id="151" idx="1"/>
          </p:cNvCxnSpPr>
          <p:nvPr/>
        </p:nvCxnSpPr>
        <p:spPr>
          <a:xfrm>
            <a:off x="3466800" y="3722400"/>
            <a:ext cx="2477160" cy="1080"/>
          </a:xfrm>
          <a:prstGeom prst="straightConnector1">
            <a:avLst/>
          </a:prstGeom>
          <a:ln w="108000">
            <a:solidFill>
              <a:srgbClr val="000000"/>
            </a:solidFill>
            <a:miter/>
            <a:headEnd len="med" type="stealth" w="med"/>
            <a:tailEnd len="med" type="stealth" w="med"/>
          </a:ln>
        </p:spPr>
      </p:cxnSp>
    </p:spTree>
  </p:cSld>
  <p:transition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1.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 Introduction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Current Issues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Issu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 rights (DB): R or R/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dition his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urrent ac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lient compatibility chec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roduction: Current Iss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VC Architectu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tegration to GMO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Conclu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mph" presetID="20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3" dur="250" autoRev="1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44" dur="250" autoRev="1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45" dur="250" autoRev="1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mph" presetID="20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7" dur="250" autoRev="1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48" dur="250" autoRev="1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49" dur="250" autoRev="1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20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1" dur="250" autoRev="1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52" dur="250" autoRev="1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53" dur="250" autoRev="1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2.1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olutions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MVC Architecture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V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Model-View-Controller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T.Reenskaug,1979)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the data stored + the read/write metho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 PostgreSQL or MySQL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(CHADO part)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iew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the user interf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 GBrowse, Apollo, Artemis,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trolle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handles user actions → effe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 missing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2.2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olutions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Integration to GMOD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8120" y="2122560"/>
            <a:ext cx="2124000" cy="2286000"/>
          </a:xfrm>
          <a:custGeom>
            <a:avLst/>
            <a:gdLst>
              <a:gd name="textAreaLeft" fmla="*/ 360 w 2124000"/>
              <a:gd name="textAreaRight" fmla="*/ 2123640 w 2124000"/>
              <a:gd name="textAreaTop" fmla="*/ 360 h 2286000"/>
              <a:gd name="textAreaBottom" fmla="*/ 2285640 h 2286000"/>
            </a:gdLst>
            <a:ahLst/>
            <a:rect l="textAreaLeft" t="textAreaTop" r="textAreaRight" b="textAreaBottom"/>
            <a:pathLst>
              <a:path w="21600" h="23247">
                <a:moveTo>
                  <a:pt x="15" y="0"/>
                </a:moveTo>
                <a:arcTo wR="15" hR="15" stAng="16200000" swAng="-5400000"/>
                <a:lnTo>
                  <a:pt x="0" y="23232"/>
                </a:lnTo>
                <a:arcTo wR="15" hR="15" stAng="10800000" swAng="-5400000"/>
                <a:lnTo>
                  <a:pt x="21585" y="23247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ata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HADO Databa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74000" y="2122560"/>
            <a:ext cx="2124000" cy="2286000"/>
          </a:xfrm>
          <a:custGeom>
            <a:avLst/>
            <a:gdLst>
              <a:gd name="textAreaLeft" fmla="*/ 360 w 2124000"/>
              <a:gd name="textAreaRight" fmla="*/ 2123640 w 2124000"/>
              <a:gd name="textAreaTop" fmla="*/ 360 h 2286000"/>
              <a:gd name="textAreaBottom" fmla="*/ 2285640 h 2286000"/>
            </a:gdLst>
            <a:ahLst/>
            <a:rect l="textAreaLeft" t="textAreaTop" r="textAreaRight" b="textAreaBottom"/>
            <a:pathLst>
              <a:path w="21600" h="23247">
                <a:moveTo>
                  <a:pt x="15" y="0"/>
                </a:moveTo>
                <a:arcTo wR="15" hR="15" stAng="16200000" swAng="-5400000"/>
                <a:lnTo>
                  <a:pt x="0" y="23232"/>
                </a:lnTo>
                <a:arcTo wR="15" hR="15" stAng="10800000" swAng="-5400000"/>
                <a:lnTo>
                  <a:pt x="21585" y="23247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View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GBrow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rtemi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"/>
          <p:cNvCxnSpPr>
            <a:stCxn id="161" idx="3"/>
            <a:endCxn id="164" idx="1"/>
          </p:cNvCxnSpPr>
          <p:nvPr/>
        </p:nvCxnSpPr>
        <p:spPr>
          <a:xfrm flipV="1">
            <a:off x="2832120" y="3253680"/>
            <a:ext cx="1070640" cy="11880"/>
          </a:xfrm>
          <a:prstGeom prst="straightConnector1">
            <a:avLst/>
          </a:prstGeom>
          <a:ln w="108000">
            <a:solidFill>
              <a:srgbClr val="000000"/>
            </a:solidFill>
            <a:miter/>
            <a:headEnd len="med" type="stealth" w="med"/>
            <a:tailEnd len="med" type="stealth" w="med"/>
          </a:ln>
        </p:spPr>
      </p:cxnSp>
      <p:sp>
        <p:nvSpPr>
          <p:cNvPr id="164" name=""/>
          <p:cNvSpPr/>
          <p:nvPr/>
        </p:nvSpPr>
        <p:spPr>
          <a:xfrm>
            <a:off x="3902040" y="2111400"/>
            <a:ext cx="2122560" cy="2286000"/>
          </a:xfrm>
          <a:custGeom>
            <a:avLst/>
            <a:gdLst>
              <a:gd name="textAreaLeft" fmla="*/ 360 w 2122560"/>
              <a:gd name="textAreaRight" fmla="*/ 2122200 w 2122560"/>
              <a:gd name="textAreaTop" fmla="*/ 360 h 2286000"/>
              <a:gd name="textAreaBottom" fmla="*/ 2285640 h 2286000"/>
            </a:gdLst>
            <a:ahLst/>
            <a:rect l="textAreaLeft" t="textAreaTop" r="textAreaRight" b="textAreaBottom"/>
            <a:pathLst>
              <a:path w="21600" h="23263">
                <a:moveTo>
                  <a:pt x="15" y="0"/>
                </a:moveTo>
                <a:arcTo wR="15" hR="15" stAng="16200000" swAng="-5400000"/>
                <a:lnTo>
                  <a:pt x="0" y="23248"/>
                </a:lnTo>
                <a:arcTo wR="15" hR="15" stAng="10800000" swAng="-5400000"/>
                <a:lnTo>
                  <a:pt x="21585" y="23263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ontroller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TTP layer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as web servic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"/>
          <p:cNvCxnSpPr>
            <a:stCxn id="164" idx="3"/>
          </p:cNvCxnSpPr>
          <p:nvPr/>
        </p:nvCxnSpPr>
        <p:spPr>
          <a:xfrm>
            <a:off x="6024600" y="3254040"/>
            <a:ext cx="1070640" cy="13320"/>
          </a:xfrm>
          <a:prstGeom prst="straightConnector1">
            <a:avLst/>
          </a:prstGeom>
          <a:ln w="108000">
            <a:solidFill>
              <a:srgbClr val="000000"/>
            </a:solidFill>
            <a:miter/>
            <a:headEnd len="med" type="stealth" w="med"/>
            <a:tailEnd len="med" type="stealth" w="med"/>
          </a:ln>
        </p:spPr>
      </p:cxn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2.2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olutions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Integration to GMOD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Task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ent compatibility chec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r authent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 rights check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(queries control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story reco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ntegrity checker” / “annotation inspector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2.2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olutions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Integration to GMOD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How will it be achiev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ent compatibility chec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ternal DB access will be clos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tocol will include version check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alentin GUIGNON</dc:creator>
  <dc:description/>
  <dc:language>en-US</dc:language>
  <cp:lastModifiedBy>sidibe-bocs</cp:lastModifiedBy>
  <dcterms:modified xsi:type="dcterms:W3CDTF">2009-01-30T17:55:23Z</dcterms:modified>
  <cp:revision>58</cp:revision>
  <dc:subject/>
  <dc:title>GMOD Chado: to a Model-View-Controller (MVC) architecture?</dc:title>
</cp:coreProperties>
</file>